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5E9-F1B3-495B-83BB-FCCDCAB7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E3F-CF97-41A2-92ED-2E805F49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CF7-87F6-4E11-BE43-53AC83E8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A62-913F-4A4D-BF92-9B2B1ECF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C48-5EE7-4CD2-A85E-E3DEE47D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FFA-D42A-4B2D-B9D3-813FB835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2BC4-BA53-43F1-AC69-88ED5208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DF5-1E61-4A9D-88EF-35E61352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6EF-3382-4B44-9A28-EBA56C01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186-1464-4EE2-BD4A-C6A8C1CA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820-A3DF-424F-B658-E761CE49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099-5249-48D3-B345-2775DAC9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FDD-173D-4C3F-BADA-60C217C21B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ms.mu/3-024/es_es/1/1019/bird.html" TargetMode="External"/><Relationship Id="rId2" Type="http://schemas.openxmlformats.org/officeDocument/2006/relationships/image" Target="../media/image1.gif"/><Relationship Id="rId3" Type="http://schemas.openxmlformats.org/officeDocument/2006/relationships/hyperlink" Target="http://www.sms.mu/3-024/es_es/1/1019/bird.html" TargetMode="External"/><Relationship Id="rId4" Type="http://schemas.openxmlformats.org/officeDocument/2006/relationships/image" Target="../media/image1.gif"/><Relationship Id="rId5" Type="http://schemas.openxmlformats.org/officeDocument/2006/relationships/hyperlink" Target="http://www.sms.mu/3-024/es_es/1/1019/bird.html" TargetMode="External"/><Relationship Id="rId6" Type="http://schemas.openxmlformats.org/officeDocument/2006/relationships/image" Target="../media/image1.gif"/><Relationship Id="rId7" Type="http://schemas.openxmlformats.org/officeDocument/2006/relationships/hyperlink" Target="http://www.sms.mu/3-024/es_es/1/1019/bird.html" TargetMode="External"/><Relationship Id="rId8" Type="http://schemas.openxmlformats.org/officeDocument/2006/relationships/image" Target="../media/image1.gif"/><Relationship Id="rId9" Type="http://schemas.openxmlformats.org/officeDocument/2006/relationships/hyperlink" Target="http://www.sms.mu/3-024/es_es/1/1019/bird.html" TargetMode="External"/><Relationship Id="rId10" Type="http://schemas.openxmlformats.org/officeDocument/2006/relationships/image" Target="../media/image1.gif"/><Relationship Id="rId11" Type="http://schemas.openxmlformats.org/officeDocument/2006/relationships/hyperlink" Target="http://www.sms.mu/3-024/es_es/1/1019/bird.html" TargetMode="External"/><Relationship Id="rId12" Type="http://schemas.openxmlformats.org/officeDocument/2006/relationships/image" Target="../media/image1.gif"/><Relationship Id="rId13" Type="http://schemas.openxmlformats.org/officeDocument/2006/relationships/hyperlink" Target="http://www.sms.mu/3-024/es_es/1/1019/bird.html" TargetMode="External"/><Relationship Id="rId14" Type="http://schemas.openxmlformats.org/officeDocument/2006/relationships/image" Target="../media/image1.gif"/><Relationship Id="rId15" Type="http://schemas.openxmlformats.org/officeDocument/2006/relationships/hyperlink" Target="http://www.sms.mu/3-024/es_es/1/1019/bird.html" TargetMode="External"/><Relationship Id="rId16" Type="http://schemas.openxmlformats.org/officeDocument/2006/relationships/image" Target="../media/image1.gif"/><Relationship Id="rId17" Type="http://schemas.openxmlformats.org/officeDocument/2006/relationships/hyperlink" Target="http://www.sms.mu/3-024/es_es/1/1019/bird.html" TargetMode="External"/><Relationship Id="rId18" Type="http://schemas.openxmlformats.org/officeDocument/2006/relationships/image" Target="../media/image1.gif"/><Relationship Id="rId19" Type="http://schemas.openxmlformats.org/officeDocument/2006/relationships/hyperlink" Target="http://www.sms.mu/3-024/es_es/1/1019/bird.html" TargetMode="External"/><Relationship Id="rId20" Type="http://schemas.openxmlformats.org/officeDocument/2006/relationships/image" Target="../media/image1.gif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imeraescuela.com/themesp/animales/aves/paloma.htm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primeraescuela.com/themesp/animales/aves/paloma.htm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primeraescuela.com/themesp/animales/aves/paloma.htm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primeraescuela.com/themesp/animales/aves/paloma.htm" TargetMode="External"/><Relationship Id="rId8" Type="http://schemas.openxmlformats.org/officeDocument/2006/relationships/image" Target="../media/image3.png"/><Relationship Id="rId9" Type="http://schemas.openxmlformats.org/officeDocument/2006/relationships/hyperlink" Target="http://www.primeraescuela.com/themesp/animales/aves/paloma.htm" TargetMode="External"/><Relationship Id="rId10" Type="http://schemas.openxmlformats.org/officeDocument/2006/relationships/image" Target="../media/image3.png"/><Relationship Id="rId11" Type="http://schemas.openxmlformats.org/officeDocument/2006/relationships/hyperlink" Target="http://www.primeraescuela.com/themesp/animales/aves/paloma.htm" TargetMode="External"/><Relationship Id="rId12" Type="http://schemas.openxmlformats.org/officeDocument/2006/relationships/image" Target="../media/image3.png"/><Relationship Id="rId13" Type="http://schemas.openxmlformats.org/officeDocument/2006/relationships/hyperlink" Target="http://www.primeraescuela.com/themesp/animales/aves/paloma.htm" TargetMode="External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http://media.mediaplazza.com/t_24/120x160/040817_bir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157720"/>
            <a:ext cx="943200" cy="1257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http://media.mediaplazza.com/t_24/120x160/040817_bird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87640" y="3789360"/>
            <a:ext cx="942840" cy="1257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ttp://media.mediaplazza.com/t_24/120x160/040817_bird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43640" y="54936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http://media.mediaplazza.com/t_24/120x160/040817_bird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643280" y="549360"/>
            <a:ext cx="943200" cy="1257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ttp://media.mediaplazza.com/t_24/120x160/040817_bird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987640" y="54936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media.mediaplazza.com/t_24/120x160/040817_bird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372360" y="227664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http://media.mediaplazza.com/t_24/120x160/040817_bird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4716360" y="2276640"/>
            <a:ext cx="94320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media.mediaplazza.com/t_24/120x160/040817_bird.gif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59280" y="2276640"/>
            <a:ext cx="942840" cy="1257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media.mediaplazza.com/t_24/120x160/040817_bird.gif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372360" y="3789360"/>
            <a:ext cx="942840" cy="125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media.mediaplazza.com/t_24/120x160/040817_bird.gif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716360" y="3789360"/>
            <a:ext cx="943200" cy="1257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4"/>
          <p:cNvSpPr/>
          <p:nvPr/>
        </p:nvSpPr>
        <p:spPr>
          <a:xfrm>
            <a:off x="684720" y="272160"/>
            <a:ext cx="1800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6600"/>
                </a:solidFill>
                <a:latin typeface="Arial"/>
                <a:ea typeface="Times New Roman"/>
              </a:rPr>
              <a:t>POLL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1800" y="-25614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1800" y="-10296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7"/>
          <p:cNvSpPr/>
          <p:nvPr/>
        </p:nvSpPr>
        <p:spPr>
          <a:xfrm>
            <a:off x="0" y="50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>
            <a:off x="1800" y="17596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468360" y="4759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1800" y="6081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1800" y="76129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1800" y="9144720"/>
            <a:ext cx="38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755640" y="5672880"/>
            <a:ext cx="1469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6600"/>
                </a:solidFill>
                <a:latin typeface="Arial"/>
                <a:ea typeface="Times New Roman"/>
              </a:rPr>
              <a:t>SALT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http://web.tiscali.it/giochiecolori/disegna/images/pesciolino.gif"/>
          <p:cNvPicPr/>
          <p:nvPr/>
        </p:nvPicPr>
        <p:blipFill>
          <a:blip r:embed="rId1"/>
          <a:stretch/>
        </p:blipFill>
        <p:spPr>
          <a:xfrm>
            <a:off x="4356000" y="515772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http://web.tiscali.it/giochiecolori/disegna/images/pesciolino.gif"/>
          <p:cNvPicPr/>
          <p:nvPr/>
        </p:nvPicPr>
        <p:blipFill>
          <a:blip r:embed="rId2"/>
          <a:stretch/>
        </p:blipFill>
        <p:spPr>
          <a:xfrm>
            <a:off x="6372360" y="90792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http://web.tiscali.it/giochiecolori/disegna/images/pesciolino.gif"/>
          <p:cNvPicPr/>
          <p:nvPr/>
        </p:nvPicPr>
        <p:blipFill>
          <a:blip r:embed="rId3"/>
          <a:stretch/>
        </p:blipFill>
        <p:spPr>
          <a:xfrm>
            <a:off x="4356000" y="90792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web.tiscali.it/giochiecolori/disegna/images/pesciolino.gif"/>
          <p:cNvPicPr/>
          <p:nvPr/>
        </p:nvPicPr>
        <p:blipFill>
          <a:blip r:embed="rId4"/>
          <a:stretch/>
        </p:blipFill>
        <p:spPr>
          <a:xfrm>
            <a:off x="2195640" y="90792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http://web.tiscali.it/giochiecolori/disegna/images/pesciolino.gif"/>
          <p:cNvPicPr/>
          <p:nvPr/>
        </p:nvPicPr>
        <p:blipFill>
          <a:blip r:embed="rId5"/>
          <a:stretch/>
        </p:blipFill>
        <p:spPr>
          <a:xfrm>
            <a:off x="6372360" y="242100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web.tiscali.it/giochiecolori/disegna/images/pesciolino.gif"/>
          <p:cNvPicPr/>
          <p:nvPr/>
        </p:nvPicPr>
        <p:blipFill>
          <a:blip r:embed="rId6"/>
          <a:stretch/>
        </p:blipFill>
        <p:spPr>
          <a:xfrm>
            <a:off x="4284720" y="249228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web.tiscali.it/giochiecolori/disegna/images/pesciolino.gif"/>
          <p:cNvPicPr/>
          <p:nvPr/>
        </p:nvPicPr>
        <p:blipFill>
          <a:blip r:embed="rId7"/>
          <a:stretch/>
        </p:blipFill>
        <p:spPr>
          <a:xfrm>
            <a:off x="2195640" y="249228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web.tiscali.it/giochiecolori/disegna/images/pesciolino.gif"/>
          <p:cNvPicPr/>
          <p:nvPr/>
        </p:nvPicPr>
        <p:blipFill>
          <a:blip r:embed="rId8"/>
          <a:stretch/>
        </p:blipFill>
        <p:spPr>
          <a:xfrm>
            <a:off x="6443640" y="407664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web.tiscali.it/giochiecolori/disegna/images/pesciolino.gif"/>
          <p:cNvPicPr/>
          <p:nvPr/>
        </p:nvPicPr>
        <p:blipFill>
          <a:blip r:embed="rId9"/>
          <a:stretch/>
        </p:blipFill>
        <p:spPr>
          <a:xfrm>
            <a:off x="4356000" y="4076640"/>
            <a:ext cx="1143000" cy="790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eb.tiscali.it/giochiecolori/disegna/images/pesciolino.gif"/>
          <p:cNvPicPr/>
          <p:nvPr/>
        </p:nvPicPr>
        <p:blipFill>
          <a:blip r:embed="rId10"/>
          <a:stretch/>
        </p:blipFill>
        <p:spPr>
          <a:xfrm>
            <a:off x="2411280" y="4076640"/>
            <a:ext cx="1143000" cy="790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4"/>
          <p:cNvSpPr/>
          <p:nvPr/>
        </p:nvSpPr>
        <p:spPr>
          <a:xfrm>
            <a:off x="250560" y="272160"/>
            <a:ext cx="2094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PECEC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1800" y="-8326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1800" y="2325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800" y="1343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1800" y="26377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1800" y="37029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76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1800" y="555876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1800" y="66240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800" y="7689240"/>
            <a:ext cx="38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828720" y="6092640"/>
            <a:ext cx="566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NADAN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http://www.primeraescuela.com/images/clip/dove__smal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34136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www.primeraescuela.com/images/clip/dove__small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134136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http://www.primeraescuela.com/images/clip/dove__small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32000" y="134136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www.primeraescuela.com/images/clip/dove__small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8720" y="2637000"/>
            <a:ext cx="1143000" cy="100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http://www.primeraescuela.com/images/clip/dove__small.gif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132000" y="4005360"/>
            <a:ext cx="1143000" cy="100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http://www.primeraescuela.com/images/clip/dove__small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435640" y="407664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primeraescuela.com/images/clip/dove__small.gif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203640" y="256536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www.primeraescuela.com/images/clip/dove__small.gif"/>
          <p:cNvPicPr/>
          <p:nvPr/>
        </p:nvPicPr>
        <p:blipFill>
          <a:blip r:embed="rId15"/>
          <a:stretch/>
        </p:blipFill>
        <p:spPr>
          <a:xfrm>
            <a:off x="971640" y="270828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://www.primeraescuela.com/images/clip/dove__small.gif"/>
          <p:cNvPicPr/>
          <p:nvPr/>
        </p:nvPicPr>
        <p:blipFill>
          <a:blip r:embed="rId16"/>
          <a:stretch/>
        </p:blipFill>
        <p:spPr>
          <a:xfrm>
            <a:off x="826920" y="4076640"/>
            <a:ext cx="1143000" cy="100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www.primeraescuela.com/images/clip/dove__small.gif"/>
          <p:cNvPicPr/>
          <p:nvPr/>
        </p:nvPicPr>
        <p:blipFill>
          <a:blip r:embed="rId17"/>
          <a:stretch/>
        </p:blipFill>
        <p:spPr>
          <a:xfrm>
            <a:off x="3419640" y="5157720"/>
            <a:ext cx="1143000" cy="1009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4"/>
          <p:cNvSpPr/>
          <p:nvPr/>
        </p:nvSpPr>
        <p:spPr>
          <a:xfrm>
            <a:off x="870840" y="40428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AJAR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1800" y="-175644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1800" y="-3801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0" y="99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1800" y="5768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1800" y="714456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1800" y="852084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2229120" y="609228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VUE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http://www.primeraescuela.com/images/clip/duck.gif"/>
          <p:cNvPicPr/>
          <p:nvPr/>
        </p:nvPicPr>
        <p:blipFill>
          <a:blip r:embed="rId1"/>
          <a:stretch/>
        </p:blipFill>
        <p:spPr>
          <a:xfrm>
            <a:off x="5796000" y="551664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http://www.primeraescuela.com/images/clip/duck.gif"/>
          <p:cNvPicPr/>
          <p:nvPr/>
        </p:nvPicPr>
        <p:blipFill>
          <a:blip r:embed="rId2"/>
          <a:stretch/>
        </p:blipFill>
        <p:spPr>
          <a:xfrm>
            <a:off x="3924360" y="42210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http://www.primeraescuela.com/images/clip/duck.gif"/>
          <p:cNvPicPr/>
          <p:nvPr/>
        </p:nvPicPr>
        <p:blipFill>
          <a:blip r:embed="rId3"/>
          <a:stretch/>
        </p:blipFill>
        <p:spPr>
          <a:xfrm>
            <a:off x="6659640" y="54936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http://www.primeraescuela.com/images/clip/duck.gif"/>
          <p:cNvPicPr/>
          <p:nvPr/>
        </p:nvPicPr>
        <p:blipFill>
          <a:blip r:embed="rId4"/>
          <a:stretch/>
        </p:blipFill>
        <p:spPr>
          <a:xfrm>
            <a:off x="5148360" y="62064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ttp://www.primeraescuela.com/images/clip/duck.gif"/>
          <p:cNvPicPr/>
          <p:nvPr/>
        </p:nvPicPr>
        <p:blipFill>
          <a:blip r:embed="rId5"/>
          <a:stretch/>
        </p:blipFill>
        <p:spPr>
          <a:xfrm>
            <a:off x="3851280" y="692280"/>
            <a:ext cx="762120" cy="952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http://www.primeraescuela.com/images/clip/duck.gif"/>
          <p:cNvPicPr/>
          <p:nvPr/>
        </p:nvPicPr>
        <p:blipFill>
          <a:blip r:embed="rId6"/>
          <a:stretch/>
        </p:blipFill>
        <p:spPr>
          <a:xfrm>
            <a:off x="6659640" y="234936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http://www.primeraescuela.com/images/clip/duck.gif"/>
          <p:cNvPicPr/>
          <p:nvPr/>
        </p:nvPicPr>
        <p:blipFill>
          <a:blip r:embed="rId7"/>
          <a:stretch/>
        </p:blipFill>
        <p:spPr>
          <a:xfrm>
            <a:off x="5219640" y="249228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http://www.primeraescuela.com/images/clip/duck.gif"/>
          <p:cNvPicPr/>
          <p:nvPr/>
        </p:nvPicPr>
        <p:blipFill>
          <a:blip r:embed="rId8"/>
          <a:stretch/>
        </p:blipFill>
        <p:spPr>
          <a:xfrm>
            <a:off x="3635280" y="256536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http://www.primeraescuela.com/images/clip/duck.gif"/>
          <p:cNvPicPr/>
          <p:nvPr/>
        </p:nvPicPr>
        <p:blipFill>
          <a:blip r:embed="rId9"/>
          <a:stretch/>
        </p:blipFill>
        <p:spPr>
          <a:xfrm>
            <a:off x="6732720" y="407664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primeraescuela.com/images/clip/duck.gif"/>
          <p:cNvPicPr/>
          <p:nvPr/>
        </p:nvPicPr>
        <p:blipFill>
          <a:blip r:embed="rId10"/>
          <a:stretch/>
        </p:blipFill>
        <p:spPr>
          <a:xfrm>
            <a:off x="5364000" y="414972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4"/>
          <p:cNvSpPr/>
          <p:nvPr/>
        </p:nvSpPr>
        <p:spPr>
          <a:xfrm>
            <a:off x="786600" y="691920"/>
            <a:ext cx="1512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PATI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1800" y="-141984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800" y="-22284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0" y="97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1800" y="192636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1800" y="312336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1800" y="4381200"/>
            <a:ext cx="200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38160" y="5792040"/>
            <a:ext cx="71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2"/>
          <p:cNvSpPr/>
          <p:nvPr/>
        </p:nvSpPr>
        <p:spPr>
          <a:xfrm>
            <a:off x="1800" y="698904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3"/>
          <p:cNvSpPr/>
          <p:nvPr/>
        </p:nvSpPr>
        <p:spPr>
          <a:xfrm>
            <a:off x="1800" y="8186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4"/>
          <p:cNvSpPr/>
          <p:nvPr/>
        </p:nvSpPr>
        <p:spPr>
          <a:xfrm>
            <a:off x="1050120" y="6092280"/>
            <a:ext cx="13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BAI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9:20:18Z</dcterms:created>
  <dc:creator>usuario</dc:creator>
  <dc:description/>
  <dc:language>en-US</dc:language>
  <cp:lastModifiedBy>Teacher</cp:lastModifiedBy>
  <dcterms:modified xsi:type="dcterms:W3CDTF">2010-02-18T17:29:44Z</dcterms:modified>
  <cp:revision>3</cp:revision>
  <dc:subject/>
  <dc:title>Diapositiva 1</dc:title>
</cp:coreProperties>
</file>